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A582E-FB05-43D5-9195-F0AD06E83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342-D58E-469A-A909-782B4147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4A3-85D2-4800-9848-CF476B5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406-CC64-486E-A0B4-AD5702ED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A1A-BC2A-452E-A2A8-7641787B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2CB-C3F1-4D75-9C18-DC5E6317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CBC-F430-4EA6-B4DD-C8EFAA0F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621-4101-4124-A31E-CBECEAC8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F5E-B96A-4D42-990A-622BEA4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256-5ED2-46D1-8017-B91F3BF8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712-096A-49EA-9715-C5E1955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474-8FAF-408B-B8B9-E13E058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BCF-0F43-4D2D-B01A-AEEBD172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D4A53-BA4D-4FBE-A76C-66EA151E6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2079720" cy="16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60175&amp;ct=1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e Page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Diego, January 1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, or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imple and consistent interchange format for commonly needed gen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iology.plosjournals.org/perlserv/?request=get-document&amp;doi=10.1371/journal.pbio.0060175&amp;ct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, making automated mining of gene info across species easier, if one wanted to, say, submit them to WikiP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0" y="73080"/>
            <a:ext cx="9071280" cy="74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ata_provider&gt;FlyBase&lt;/data_provi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cession&gt;FBgn0000490&lt;/access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primary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ynonym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INTERPRO" key="69" id="IPR001111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orthologs" key="93" id="HOMSA:ENP44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common"&gt;fruit fly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cientific"&gt;Drosophila melanogaster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NCBI Taxonomy" key="107" id="7227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 map="genome" chromosome="2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ition="2428454..2459609" units="bp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ntolog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GO" key="108" id="GO:0007455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term" value="antennal disc morph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evidence_code" value="inferre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dbRefer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pubmed" key="3368" id="17034783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lass Bio::GMOD::GenericGen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GMOD::GenericGenePage::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some abstract clas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_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e new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page = Bio::GMOD::GenericGenePage-&gt;new($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xml = $page-&gt;render_xm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yeast set at gmod.or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mod.org/cgi-bin/gbrowse/chado_yeas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 B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n</dc:creator>
  <dc:description/>
  <dc:language>en-US</dc:language>
  <cp:lastModifiedBy/>
  <cp:revision>0</cp:revision>
  <dc:subject/>
  <dc:title/>
</cp:coreProperties>
</file>